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B3A9-D94D-406C-9825-9E3365FF83FF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ption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3320" y="2057400"/>
            <a:ext cx="297252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7480" y="4570560"/>
            <a:ext cx="2279160" cy="1634760"/>
            <a:chOff x="1527480" y="4570560"/>
            <a:chExt cx="2279160" cy="1634760"/>
          </a:xfrm>
        </p:grpSpPr>
        <p:sp>
          <p:nvSpPr>
            <p:cNvPr id="116" name=""/>
            <p:cNvSpPr/>
            <p:nvPr/>
          </p:nvSpPr>
          <p:spPr>
            <a:xfrm>
              <a:off x="2440080" y="4800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7480" y="5562720"/>
              <a:ext cx="183132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Entiti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9" idx="2"/>
              <a:endCxn id="117" idx="0"/>
            </p:cNvCxnSpPr>
            <p:nvPr/>
          </p:nvCxnSpPr>
          <p:spPr>
            <a:xfrm flipV="1" rot="10800000">
              <a:off x="2442600" y="4570200"/>
              <a:ext cx="1080" cy="9784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</p:grpSp>
      <p:grpSp>
        <p:nvGrpSpPr>
          <p:cNvPr id="120" name=""/>
          <p:cNvGrpSpPr/>
          <p:nvPr/>
        </p:nvGrpSpPr>
        <p:grpSpPr>
          <a:xfrm>
            <a:off x="1310400" y="3733920"/>
            <a:ext cx="4377600" cy="794880"/>
            <a:chOff x="1310400" y="3733920"/>
            <a:chExt cx="4377600" cy="794880"/>
          </a:xfrm>
        </p:grpSpPr>
        <p:sp>
          <p:nvSpPr>
            <p:cNvPr id="119" name=""/>
            <p:cNvSpPr/>
            <p:nvPr/>
          </p:nvSpPr>
          <p:spPr>
            <a:xfrm>
              <a:off x="1310400" y="3886200"/>
              <a:ext cx="226548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BASE-C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1"/>
              <a:endCxn id="119" idx="3"/>
            </p:cNvCxnSpPr>
            <p:nvPr/>
          </p:nvCxnSpPr>
          <p:spPr>
            <a:xfrm rot="10800000">
              <a:off x="3604320" y="4220280"/>
              <a:ext cx="2083680" cy="10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3" name=""/>
            <p:cNvSpPr/>
            <p:nvPr/>
          </p:nvSpPr>
          <p:spPr>
            <a:xfrm>
              <a:off x="3888000" y="37339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18240" y="2741400"/>
            <a:ext cx="2584080" cy="1787400"/>
            <a:chOff x="5718240" y="2741400"/>
            <a:chExt cx="2584080" cy="1787400"/>
          </a:xfrm>
        </p:grpSpPr>
        <p:sp>
          <p:nvSpPr>
            <p:cNvPr id="122" name=""/>
            <p:cNvSpPr/>
            <p:nvPr/>
          </p:nvSpPr>
          <p:spPr>
            <a:xfrm>
              <a:off x="5718240" y="3886200"/>
              <a:ext cx="254304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omplete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14" idx="2"/>
              <a:endCxn id="122" idx="0"/>
            </p:cNvCxnSpPr>
            <p:nvPr/>
          </p:nvCxnSpPr>
          <p:spPr>
            <a:xfrm flipV="1" rot="10800000">
              <a:off x="6989040" y="2741400"/>
              <a:ext cx="1080" cy="1130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6" name=""/>
            <p:cNvSpPr/>
            <p:nvPr/>
          </p:nvSpPr>
          <p:spPr>
            <a:xfrm>
              <a:off x="6935760" y="30481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62120" y="2971800"/>
            <a:ext cx="1447560" cy="457200"/>
          </a:xfrm>
          <a:prstGeom prst="wedgeRoundRectCallout">
            <a:avLst>
              <a:gd name="adj1" fmla="val 80263"/>
              <a:gd name="adj2" fmla="val 14270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181480"/>
            <a:ext cx="2362320" cy="457200"/>
          </a:xfrm>
          <a:prstGeom prst="wedgeRoundRectCallout">
            <a:avLst>
              <a:gd name="adj1" fmla="val 41129"/>
              <a:gd name="adj2" fmla="val -18229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05120"/>
            <a:ext cx="3733920" cy="457200"/>
          </a:xfrm>
          <a:prstGeom prst="wedgeRoundRectCallout">
            <a:avLst>
              <a:gd name="adj1" fmla="val 78740"/>
              <a:gd name="adj2" fmla="val 109375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53 + 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095880"/>
            <a:ext cx="1295280" cy="457200"/>
          </a:xfrm>
          <a:prstGeom prst="wedgeRoundRectCallout">
            <a:avLst>
              <a:gd name="adj1" fmla="val -109314"/>
              <a:gd name="adj2" fmla="val -6006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6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7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s documented in the CIS/2 Beta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8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20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E-CCs Explained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for each non-abstract entity in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entities are not inst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SE-CC for each base-entity built from the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it references 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that must point a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icit inverse relationships with no zero cardi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requires relationships to any super-types to be consid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CCs where generated automatically from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rules w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side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“valid subset” results from recursively pulling-in entities until the list is s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se entity may have many valid subse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ntity Pull-in Rul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341520" y="2460600"/>
            <a:ext cx="2633760" cy="1747800"/>
            <a:chOff x="3341520" y="2460600"/>
            <a:chExt cx="2633760" cy="1747800"/>
          </a:xfrm>
        </p:grpSpPr>
        <p:sp>
          <p:nvSpPr>
            <p:cNvPr id="227" name=""/>
            <p:cNvSpPr/>
            <p:nvPr/>
          </p:nvSpPr>
          <p:spPr>
            <a:xfrm>
              <a:off x="4067280" y="2460600"/>
              <a:ext cx="954000" cy="47772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1280" y="3732120"/>
              <a:ext cx="95400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545000" y="293832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341520" y="3254040"/>
              <a:ext cx="160560" cy="477720"/>
              <a:chOff x="3341520" y="3254040"/>
              <a:chExt cx="160560" cy="47772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3431520" y="325404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41520" y="355284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398920" y="3279600"/>
              <a:ext cx="158760" cy="478080"/>
              <a:chOff x="5398920" y="3279600"/>
              <a:chExt cx="158760" cy="47808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5488200" y="3279600"/>
                <a:ext cx="0" cy="478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98920" y="357804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432240" y="325440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846600" y="5002200"/>
            <a:ext cx="95256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35000" y="3732120"/>
            <a:ext cx="2451240" cy="1746360"/>
            <a:chOff x="1935000" y="3732120"/>
            <a:chExt cx="2451240" cy="1746360"/>
          </a:xfrm>
        </p:grpSpPr>
        <p:sp>
          <p:nvSpPr>
            <p:cNvPr id="239" name=""/>
            <p:cNvSpPr/>
            <p:nvPr/>
          </p:nvSpPr>
          <p:spPr>
            <a:xfrm>
              <a:off x="2955960" y="3732120"/>
              <a:ext cx="950760" cy="4762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432240" y="4208040"/>
              <a:ext cx="0" cy="319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5000" y="5002200"/>
              <a:ext cx="95436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226040" y="4527720"/>
              <a:ext cx="160200" cy="474480"/>
              <a:chOff x="4226040" y="4527720"/>
              <a:chExt cx="160200" cy="47448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431604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26040" y="4824000"/>
                <a:ext cx="16020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317680" y="4527720"/>
              <a:ext cx="160560" cy="474480"/>
              <a:chOff x="2317680" y="4527720"/>
              <a:chExt cx="160560" cy="47448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40768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17680" y="4824000"/>
                <a:ext cx="16056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H="1">
              <a:off x="2411280" y="4527720"/>
              <a:ext cx="18878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04920" y="5010120"/>
            <a:ext cx="2224440" cy="476280"/>
            <a:chOff x="4804920" y="5010120"/>
            <a:chExt cx="2224440" cy="476280"/>
          </a:xfrm>
        </p:grpSpPr>
        <p:sp>
          <p:nvSpPr>
            <p:cNvPr id="250" name=""/>
            <p:cNvSpPr/>
            <p:nvPr/>
          </p:nvSpPr>
          <p:spPr>
            <a:xfrm>
              <a:off x="6078600" y="501012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804920" y="5254560"/>
              <a:ext cx="127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18040" y="5170320"/>
              <a:ext cx="16056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828800" y="2438280"/>
            <a:ext cx="2209680" cy="527040"/>
            <a:chOff x="1828800" y="2438280"/>
            <a:chExt cx="2209680" cy="527040"/>
          </a:xfrm>
        </p:grpSpPr>
        <p:sp>
          <p:nvSpPr>
            <p:cNvPr id="254" name=""/>
            <p:cNvSpPr/>
            <p:nvPr/>
          </p:nvSpPr>
          <p:spPr>
            <a:xfrm flipH="1">
              <a:off x="2765520" y="2730600"/>
              <a:ext cx="1272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79720" y="2644920"/>
              <a:ext cx="158760" cy="1587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8800" y="2490840"/>
              <a:ext cx="954000" cy="4744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25520" y="24382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549440" y="1943280"/>
            <a:ext cx="5753160" cy="4132080"/>
            <a:chOff x="1549440" y="1943280"/>
            <a:chExt cx="5753160" cy="4132080"/>
          </a:xfrm>
        </p:grpSpPr>
        <p:sp>
          <p:nvSpPr>
            <p:cNvPr id="259" name=""/>
            <p:cNvSpPr/>
            <p:nvPr/>
          </p:nvSpPr>
          <p:spPr>
            <a:xfrm>
              <a:off x="1549440" y="194328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8680" y="450864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78360" y="4533840"/>
              <a:ext cx="152424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6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80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81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83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88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96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99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30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30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17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327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30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33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40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5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5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Beta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ERE Ru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s-defined, BASE-CCs d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ow for the existence of any WHERE rules that require the co-existence of entities from different BASE-C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WHRE rules will require some BASE-CCs to be used in combination, effective reducing the number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ASE-C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complete BASE-C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7" name=""/>
            <p:cNvCxnSpPr>
              <a:stCxn id="78" idx="2"/>
              <a:endCxn id="79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0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78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78" idx="2"/>
                <a:endCxn id="81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4" name=""/>
            <p:cNvCxnSpPr>
              <a:stCxn id="81" idx="3"/>
              <a:endCxn id="7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2"/>
            <a:endCxn id="97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0" name=""/>
          <p:cNvCxnSpPr>
            <a:stCxn id="96" idx="2"/>
            <a:endCxn id="98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2" name=""/>
            <p:cNvCxnSpPr>
              <a:stCxn id="98" idx="3"/>
              <a:endCxn id="96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3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00:35:22Z</dcterms:modified>
  <cp:revision>35</cp:revision>
  <dc:subject/>
  <dc:title>AISC CIS/2  Workshop #I</dc:title>
</cp:coreProperties>
</file>